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03019D-D24B-4BDA-90AA-40EF680C4ED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39640" y="3008160"/>
            <a:ext cx="777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219ª REUNIÃO ORDINÁRIA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ONSELHO NACIONAL DE PREVIDÊNCIA SOCIAL – CN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asília, agosto de 2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1520" y="2565000"/>
            <a:ext cx="903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 Banco Cent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rédito consignado para o INSS, todos os bancos já operam próximo ao teto e comparou com a taxa média praticada para os servidores públicos, que é abaixo da do IN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ão verifica redução no estoque de concessão dos créditos consign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ma forte competitividade nessa linha de crédi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 do corresponde bancário é al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orda que os dados levantados pela ABBC trazem impactos para os pequenos e médios bancos, o que prejudica a concorrência, especialmente devido ao custo de cap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bancos pequenos e médios ficam em desvantagem em relação aos grandes pois operam com poucas linhas de crédito, o que dificulta a compensação de algum prejuízo sofr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2381040"/>
            <a:ext cx="90360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s Conselheiros representantes dos trabalhadores e aposen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rou-se contrária ao aumento da taxa e que a apresentação do INSS não confirma os dados apresentados pela ABB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firmou que o GT precisa discutir a questão da margem consignável e que a Central vai lutar para baixar a taxa SEL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 a associação de bancos menores com bancos maiores como normal, conforme ocorre com vários outros segmentos do merc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NAP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ou que a Força Sindical está estudando o tema internamente e ainda não têm uma posição fecha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ou a preocupação da entidade com o endividamento dos aposentados, mas consideram que o empréstimo consignado é a melhor linha de crédito, entre as exist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1520" y="2565360"/>
            <a:ext cx="9036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s Conselheiros representantes dos trabalhadores e aposen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rou-se preocupada quanto ao nível de endividamento dos aposentados, especialmente devido ao aumento da margem consignável para 35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PI/C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edita que o momento não propício para a elevação da taxa, visto que a margem consignável foi ampliada com o intuito de facilitar o pagamento das prestações, o que pode voltar a elevar-se em função do aumento da taxa de ju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acou que o crédito consignado é muito importante para os aposentados e que existe uma preocupação quanto à possibilidade de os bancos deixarem de trabalhar com essa linha de crédito.  Sugeriu que fosse realizada mais uma reuni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01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paço Reservado para Conteúdo 2"/>
          <p:cNvSpPr/>
          <p:nvPr/>
        </p:nvSpPr>
        <p:spPr>
          <a:xfrm>
            <a:off x="-20520" y="2349360"/>
            <a:ext cx="9138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dagem do Relató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de maio de 2015 vem sendo discutida, no âmbito do Conselho Nacional de Previdência Social, uma proposta de aumento das taxas máximas vigente de 2,14% para 2,63% e 3,06 para 3,55 para o crédito consignado e para o cartão consignado, respectivamente, encaminhada pela Associação Brasileira de Bancos – ABB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osta foi debatida em duas reuniões do Grupo de Trabalho Crédito Consignado, com apresentação dos argumentos da ABBC, do INSS, do Banco Central e dos conselhei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01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640" y="3357720"/>
            <a:ext cx="903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vas levantados pela AB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elevação da SELIC nos últimos dois an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ção do custo de processamento da DATAPREV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ção dos custos administrativos dos ban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ção do custo de captação dos bancos médios frente ao teto do INS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perda de competividade dos bancos médi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locamento da política de vínculo do teto de juros com a SEL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dos bancos mé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Espaço Reservado para Conteúdo 2"/>
          <p:cNvSpPr/>
          <p:nvPr/>
        </p:nvSpPr>
        <p:spPr>
          <a:xfrm>
            <a:off x="4680" y="1700280"/>
            <a:ext cx="90140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ualização da proposta da AB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BBC entende que o teto fixado para os empréstimos consignados está limitando a atuação dos bancos médios (com produção mínima de R$ 5 milhões) e solicita aumento das taxas praticadas de 2,14% a.m. para 2,63% % a.m e de 3,06% % a.m para 3,55 % a.m para os empréstimos consignados e cartão consignado,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1520" y="2565360"/>
            <a:ext cx="9036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a AB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o atual vivido pelo país está causando retração no crédito ofert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ltima fixação da taxa máxima ocorreu em 2012 e que, desde então, tem-se observado um deslocamento significativo em relação ao comportamento da SELIC, com inflação próxima a 24% desde a fixação até a data pres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 uma série de custos que estão sendo imputados pelo sistema financeiro que indicam a necessidade da revisão das taxas e que a proposta de au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2008 havia 64 instituições financeiras operando com mais de 5 milhões por mês e neste momento existem apenas 24 instituições operando com esse mont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ir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1520" y="256500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 IN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úmero de empréstimos vem crescendo gradualmente, com variações residu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ão se verifica uma grande concentração de empréstimos em poucas institui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ão foi observada uma retração do ponto de vista da oferta de crédito nem na quantidade de contratos que estão sendo firm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ir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1520" y="256500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 Banco Cent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axas praticadas para o servidor público são menores do que as do IN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ercado de consignado é muito competitivo e não fica claro como os bancos menores conseguiriam competir, levando em conta a diferença sobre o custo de capt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ir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1520" y="256500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s Conselheiros representantes dos trabalhadores e aposen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raram-se contrários ao aumento das taxas de ju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aumento da referida taxa aumentaria todos os juros de empréstimos pessoais e as demais taxas de crédito, em efeito casc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ocupação quanto ao aumento de endividamento dos aposen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ir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40" y="82512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720" y="2060640"/>
            <a:ext cx="904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a AB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locamento da taxa máxima em relação a SEL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 de processamento da DATAPREV (elevação de aproximadamente 60%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ção da inflação que tem impacto direto no custo de captação dos bancos pequenos e médios, afetando a competitiv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gnação da linha de crédito consignado do INSS em 28%, devido ao te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posição do spread para o mesmo patamar em que estava no momento da fixação do teto em 2,14%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ância dos bancos médios para o sistema financeiro, inclusive na oferta de crédito e atendimento em áreas rur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ior parte dos empréstimos consignados eram tomados para quitar dívidas anteriores com taxas mais altas, o que mostra a relevância dessa linha de crédi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ma baixa concentração bancária trabalhado com essa linha de crédito, o que é o grande receio da ABBC.  Não considera a concentração saud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Espaço Reservado para Conteúdo 2"/>
          <p:cNvSpPr/>
          <p:nvPr/>
        </p:nvSpPr>
        <p:spPr>
          <a:xfrm>
            <a:off x="-17640" y="1587600"/>
            <a:ext cx="90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01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ório do Grupo de Trabalho Crédito Consignado sobre elevação do teto de j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1520" y="256500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os levantados pelo IN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dança da carteira dos bancos médios para os grandes é uma consequência de um rearranjo do merc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2008 a 2015 (abril de cada ano) não se verifica grande variação na concentração dos bancos operando com crédito consign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 26 milhões de potenciais beneficiários do crédito consignado, mas que é utilizado por cerca de 60% desse to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Espaço Reservado para Conteúdo 2"/>
          <p:cNvSpPr/>
          <p:nvPr/>
        </p:nvSpPr>
        <p:spPr>
          <a:xfrm>
            <a:off x="11160" y="1773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nda Reunião do GT Créditos Consig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anuel  de Araujo Dantas - MPS</dc:creator>
  <dc:description/>
  <dc:language>en-US</dc:language>
  <cp:lastModifiedBy>Edvaldo Duarte Barbosa - MPS</cp:lastModifiedBy>
  <dcterms:modified xsi:type="dcterms:W3CDTF">2015-08-26T18:53:57Z</dcterms:modified>
  <cp:revision>217</cp:revision>
  <dc:subject/>
  <dc:title>Slide 1</dc:title>
</cp:coreProperties>
</file>